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54F-858F-470A-B52C-8C13AA4E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124-5FCA-485B-9CEE-EFABF836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AEB-7EFB-4CC0-80FC-071A4C5A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5EC-023B-4D72-9722-14BD74BB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4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ABB-F1C9-4FF6-985D-2A0E147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91D-506D-44F1-A9FD-4FC88100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3D6-A72A-425C-A71E-9B52AF4B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D27-2CFF-472A-8155-464071F9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400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4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8E1-C5B2-493B-9356-FADAA3D5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6E6-9EF6-48E4-A90E-BBF7A33C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D28-6F00-4FAF-8606-8595F11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4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1B1-B5F2-4315-A85E-85BA0BD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4520" indent="-236520">
              <a:spcBef>
                <a:spcPts val="74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44640" indent="-18900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2280" indent="-188640">
              <a:spcBef>
                <a:spcPts val="74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01720" indent="-189000">
              <a:spcBef>
                <a:spcPts val="74"/>
              </a:spcBef>
              <a:buClr>
                <a:srgbClr val="000000"/>
              </a:buClr>
              <a:buFont typeface="Arial"/>
              <a:buChar char="»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01720" indent="-189000">
              <a:spcBef>
                <a:spcPts val="74"/>
              </a:spcBef>
              <a:buClr>
                <a:srgbClr val="000000"/>
              </a:buClr>
              <a:buFont typeface="Arial"/>
              <a:buChar char="»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01720" indent="-189000">
              <a:spcBef>
                <a:spcPts val="74"/>
              </a:spcBef>
              <a:buClr>
                <a:srgbClr val="000000"/>
              </a:buClr>
              <a:buFont typeface="Arial"/>
              <a:buChar char="»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6200"/>
            <a:ext cx="176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9736200"/>
            <a:ext cx="239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6200"/>
            <a:ext cx="1764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65FC-7187-4C48-884C-81E5720EE0DF}" type="slidenum">
              <a:rPr b="0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文本框 3" descr=""/>
          <p:cNvPicPr/>
          <p:nvPr/>
        </p:nvPicPr>
        <p:blipFill>
          <a:blip r:embed="rId2"/>
          <a:stretch/>
        </p:blipFill>
        <p:spPr>
          <a:xfrm>
            <a:off x="1079640" y="1384200"/>
            <a:ext cx="4284360" cy="4255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"/>
          <p:cNvSpPr/>
          <p:nvPr/>
        </p:nvSpPr>
        <p:spPr>
          <a:xfrm>
            <a:off x="1090440" y="2282760"/>
            <a:ext cx="427356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150-230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字（不超出框外皆可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介绍本专利的基本内容、新颖性、先进性、技术特点、实用性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2066760" y="4324320"/>
            <a:ext cx="329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发明人姓名、学院、专业、年级等（本科生，格式参照：材料学院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2013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级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、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XXX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1763640" y="7505640"/>
            <a:ext cx="129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团队成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3997440" y="7505640"/>
            <a:ext cx="12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专利设计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1763640" y="9234360"/>
            <a:ext cx="12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专利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4068720" y="9234360"/>
            <a:ext cx="11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专利展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4789440" y="9523440"/>
            <a:ext cx="151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思源黑体 CN ExtraLight"/>
                <a:ea typeface="思源黑体 CN ExtraLight"/>
              </a:rPr>
              <a:t>该项目获教务处立项支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2124000" y="4842000"/>
            <a:ext cx="329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需准确无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2124000" y="5418000"/>
            <a:ext cx="14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XX</a:t>
            </a:r>
            <a:r>
              <a:rPr b="0" lang="zh-CN" sz="11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173160" y="7000920"/>
            <a:ext cx="115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请提供</a:t>
            </a:r>
            <a:r>
              <a:rPr b="0" lang="en-US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4</a:t>
            </a:r>
            <a:r>
              <a:rPr b="0" lang="zh-CN" sz="11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张图片，包含成员、专利展示或图示、专利证书等，图片注释应与图片内容一致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3T12:29:51Z</dcterms:created>
  <dc:creator>XinHung Cai</dc:creator>
  <dc:description/>
  <cp:keywords/>
  <dc:language>en-US</dc:language>
  <cp:lastModifiedBy>杨建波</cp:lastModifiedBy>
  <dcterms:modified xsi:type="dcterms:W3CDTF">2019-01-07T01:50:49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