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6AD-9910-4D7D-AFD1-D21F4A5B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495-9FFC-49B6-92E5-75DE5145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7E2-BBDE-42C2-AF3A-325210FD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B29-A423-4D48-A696-7A0CFEF2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4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574-3B0D-4A06-BD21-56DA1587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1EB-2766-4E31-A002-01C6B2C7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7E6-22D8-45DA-A3D9-F0DEC13C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308-766A-48E2-8D4B-4C57A6EB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400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4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330-35E2-4945-9766-A7220B48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FFA-C197-4BDA-BE28-9786C218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0A5-B04A-4ED0-AC40-DBCBF483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E5F-A75A-47A7-BF61-3406E105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-236520">
              <a:spcBef>
                <a:spcPts val="74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44640" indent="-18900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2280" indent="-188640">
              <a:spcBef>
                <a:spcPts val="74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01720" indent="-189000">
              <a:spcBef>
                <a:spcPts val="74"/>
              </a:spcBef>
              <a:buClr>
                <a:srgbClr val="000000"/>
              </a:buClr>
              <a:buFont typeface="Arial"/>
              <a:buChar char="»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01720" indent="-189000">
              <a:spcBef>
                <a:spcPts val="74"/>
              </a:spcBef>
              <a:buClr>
                <a:srgbClr val="000000"/>
              </a:buClr>
              <a:buFont typeface="Arial"/>
              <a:buChar char="»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01720" indent="-189000">
              <a:spcBef>
                <a:spcPts val="74"/>
              </a:spcBef>
              <a:buClr>
                <a:srgbClr val="000000"/>
              </a:buClr>
              <a:buFont typeface="Arial"/>
              <a:buChar char="»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6200"/>
            <a:ext cx="176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9736200"/>
            <a:ext cx="239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6200"/>
            <a:ext cx="1764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9302-276B-4231-9D15-1670ABDA93AD}" type="slidenum">
              <a:rPr b="0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文本框 3" descr=""/>
          <p:cNvPicPr/>
          <p:nvPr/>
        </p:nvPicPr>
        <p:blipFill>
          <a:blip r:embed="rId2"/>
          <a:stretch/>
        </p:blipFill>
        <p:spPr>
          <a:xfrm>
            <a:off x="1079640" y="1384200"/>
            <a:ext cx="4644720" cy="42552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"/>
          <p:cNvSpPr/>
          <p:nvPr/>
        </p:nvSpPr>
        <p:spPr>
          <a:xfrm>
            <a:off x="1090440" y="2282760"/>
            <a:ext cx="42735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150-230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字（不超出框外皆可）（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应包含：该赛事由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XX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、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主办，竞赛宗旨、目的，竞赛内容和形式，参赛规模，竞赛意义等。需在字数范围内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1068480" y="4324320"/>
            <a:ext cx="42955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150-210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字（不超出框外皆可））（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应包含：该赛事由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承办，设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奖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名，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奖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名。需在字数范围内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2486160" y="7431120"/>
            <a:ext cx="129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宣传现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9"/>
          <p:cNvSpPr/>
          <p:nvPr/>
        </p:nvSpPr>
        <p:spPr>
          <a:xfrm>
            <a:off x="4756320" y="7443720"/>
            <a:ext cx="12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团队合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2498760" y="9156600"/>
            <a:ext cx="12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金奖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4756320" y="9144000"/>
            <a:ext cx="118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证书封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5321160" y="9461520"/>
            <a:ext cx="133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ExtraLight"/>
                <a:ea typeface="思源黑体 CN ExtraLight"/>
              </a:rPr>
              <a:t>该项目获教务处立项支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7"/>
          <p:cNvSpPr/>
          <p:nvPr/>
        </p:nvSpPr>
        <p:spPr>
          <a:xfrm>
            <a:off x="173160" y="7000920"/>
            <a:ext cx="183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请提供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4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张图片，包含参赛选手、比赛现场、获奖证书等，图片注释应与图片内容一致。另需对应提供高清图片，图片名称以图片注释内容命名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3"/>
          <p:cNvSpPr/>
          <p:nvPr/>
        </p:nvSpPr>
        <p:spPr>
          <a:xfrm>
            <a:off x="1330200" y="1914480"/>
            <a:ext cx="25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、</a:t>
            </a: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（需为本科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4"/>
          <p:cNvSpPr/>
          <p:nvPr/>
        </p:nvSpPr>
        <p:spPr>
          <a:xfrm>
            <a:off x="1355760" y="2295360"/>
            <a:ext cx="249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（学院全称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"/>
          <p:cNvSpPr/>
          <p:nvPr/>
        </p:nvSpPr>
        <p:spPr>
          <a:xfrm>
            <a:off x="1343160" y="2674800"/>
            <a:ext cx="2508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（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本科专业全称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1355760" y="3068640"/>
            <a:ext cx="249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X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"/>
          <p:cNvSpPr/>
          <p:nvPr/>
        </p:nvSpPr>
        <p:spPr>
          <a:xfrm>
            <a:off x="898560" y="4265640"/>
            <a:ext cx="4392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500-700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字（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文字、标点应正确无误，表述清晰准确，段落清晰，需在字数范围内。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7"/>
          <p:cNvSpPr/>
          <p:nvPr/>
        </p:nvSpPr>
        <p:spPr>
          <a:xfrm>
            <a:off x="4284720" y="2295360"/>
            <a:ext cx="183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请提供个人或团队照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2:29:51Z</dcterms:created>
  <dc:creator>XinHung Cai</dc:creator>
  <dc:description/>
  <cp:keywords/>
  <dc:language>en-US</dc:language>
  <cp:lastModifiedBy>杨建波</cp:lastModifiedBy>
  <dcterms:modified xsi:type="dcterms:W3CDTF">2019-01-07T01:49:41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