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943-993F-4826-8E90-DD35043B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EEA-515E-4CB4-BF47-D14125BB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DC8-47C0-4553-9931-67877A89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BD3-1747-4E74-A946-A1E89635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4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9B1-E3DA-4DB6-BEA1-29DC58A1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9CA-A5EA-4F31-8CED-0F2CEF40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D43-ACD7-4F0C-8BF0-6A0CBC39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A6E-378F-4B21-8270-8443C8E8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400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4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C8B-4E5C-4E4F-A9BF-2C4D8DDB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361-4F71-4007-BA62-A1DFDC35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8F7-ED6B-454F-8BD4-122BEC57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828-0A21-4C5A-A8A9-D1DC8FDF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-236520">
              <a:spcBef>
                <a:spcPts val="74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44640" indent="-18900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2280" indent="-188640">
              <a:spcBef>
                <a:spcPts val="74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01720" indent="-189000">
              <a:spcBef>
                <a:spcPts val="74"/>
              </a:spcBef>
              <a:buClr>
                <a:srgbClr val="000000"/>
              </a:buClr>
              <a:buFont typeface="Arial"/>
              <a:buChar char="»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01720" indent="-189000">
              <a:spcBef>
                <a:spcPts val="74"/>
              </a:spcBef>
              <a:buClr>
                <a:srgbClr val="000000"/>
              </a:buClr>
              <a:buFont typeface="Arial"/>
              <a:buChar char="»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01720" indent="-189000">
              <a:spcBef>
                <a:spcPts val="74"/>
              </a:spcBef>
              <a:buClr>
                <a:srgbClr val="000000"/>
              </a:buClr>
              <a:buFont typeface="Arial"/>
              <a:buChar char="»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6200"/>
            <a:ext cx="176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9736200"/>
            <a:ext cx="239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6200"/>
            <a:ext cx="1764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DD64-42E3-419A-A813-72C7D8BDF302}" type="slidenum">
              <a:rPr b="0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文本框 3" descr=""/>
          <p:cNvPicPr/>
          <p:nvPr/>
        </p:nvPicPr>
        <p:blipFill>
          <a:blip r:embed="rId2"/>
          <a:stretch/>
        </p:blipFill>
        <p:spPr>
          <a:xfrm>
            <a:off x="1079640" y="1384200"/>
            <a:ext cx="4857480" cy="42552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"/>
          <p:cNvSpPr/>
          <p:nvPr/>
        </p:nvSpPr>
        <p:spPr>
          <a:xfrm>
            <a:off x="1090440" y="2282760"/>
            <a:ext cx="427356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150-230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字（不超出框外皆可）（该部分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需对竞赛总体情况进行描述，文字应简练、信息要准确，需包含主办方、竞赛目的、竞赛主题、参赛规模、奖项设置等信息。请参照竞赛官方简介、总结、新闻稿提供。该部分不涉及我校参赛具体信息。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1914480" y="4324320"/>
            <a:ext cx="344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一等奖、优秀指导老师奖、优秀组织奖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（只列最高级奖项，不同奖项之间用顿号隔开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6"/>
          <p:cNvSpPr/>
          <p:nvPr/>
        </p:nvSpPr>
        <p:spPr>
          <a:xfrm>
            <a:off x="1914480" y="4844880"/>
            <a:ext cx="344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、</a:t>
            </a: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（本科生，成员之间用顿号隔开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7"/>
          <p:cNvSpPr/>
          <p:nvPr/>
        </p:nvSpPr>
        <p:spPr>
          <a:xfrm>
            <a:off x="1927080" y="5415120"/>
            <a:ext cx="343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学院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（请填写学院全称，不同学院用顿号隔开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8"/>
          <p:cNvSpPr/>
          <p:nvPr/>
        </p:nvSpPr>
        <p:spPr>
          <a:xfrm>
            <a:off x="2486160" y="7431120"/>
            <a:ext cx="129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宣传现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9"/>
          <p:cNvSpPr/>
          <p:nvPr/>
        </p:nvSpPr>
        <p:spPr>
          <a:xfrm>
            <a:off x="4756320" y="7443720"/>
            <a:ext cx="12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团队合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0"/>
          <p:cNvSpPr/>
          <p:nvPr/>
        </p:nvSpPr>
        <p:spPr>
          <a:xfrm>
            <a:off x="2498760" y="9156600"/>
            <a:ext cx="12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金奖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1"/>
          <p:cNvSpPr/>
          <p:nvPr/>
        </p:nvSpPr>
        <p:spPr>
          <a:xfrm>
            <a:off x="4756320" y="9144000"/>
            <a:ext cx="118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证书封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2"/>
          <p:cNvSpPr/>
          <p:nvPr/>
        </p:nvSpPr>
        <p:spPr>
          <a:xfrm>
            <a:off x="5321160" y="9461520"/>
            <a:ext cx="133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ExtraLight"/>
                <a:ea typeface="思源黑体 CN ExtraLight"/>
              </a:rPr>
              <a:t>该项目获教务处立项支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173160" y="7000920"/>
            <a:ext cx="183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请提供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4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张图片，包含成员、比赛现场、获奖证书等，图片注释应与图片内容一致。另需对应提供高清图片，图片名称以图片注释内容命名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3"/>
          <p:cNvSpPr/>
          <p:nvPr/>
        </p:nvSpPr>
        <p:spPr>
          <a:xfrm>
            <a:off x="1330200" y="1914480"/>
            <a:ext cx="25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、</a:t>
            </a: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（需为本科生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"/>
          <p:cNvSpPr/>
          <p:nvPr/>
        </p:nvSpPr>
        <p:spPr>
          <a:xfrm>
            <a:off x="1355760" y="2295360"/>
            <a:ext cx="249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（学院全称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1343160" y="2674800"/>
            <a:ext cx="2508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（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本科专业全称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1355760" y="3068640"/>
            <a:ext cx="249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X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7"/>
          <p:cNvSpPr/>
          <p:nvPr/>
        </p:nvSpPr>
        <p:spPr>
          <a:xfrm>
            <a:off x="900000" y="4248000"/>
            <a:ext cx="4392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500-700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字（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文字、标点应正确无误，表述清晰准确，段落清晰，需在字数范围内。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7"/>
          <p:cNvSpPr/>
          <p:nvPr/>
        </p:nvSpPr>
        <p:spPr>
          <a:xfrm>
            <a:off x="4284720" y="2295360"/>
            <a:ext cx="183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请提供个人或团队照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2:29:51Z</dcterms:created>
  <dc:creator>XinHung Cai</dc:creator>
  <dc:description/>
  <cp:keywords/>
  <dc:language>en-US</dc:language>
  <cp:lastModifiedBy>杨建波</cp:lastModifiedBy>
  <dcterms:modified xsi:type="dcterms:W3CDTF">2019-01-07T01:49:00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