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comments/comment7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沈晓红" initials="沈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<Relationship Id="rId24" Type="http://schemas.openxmlformats.org/officeDocument/2006/relationships/commentAuthors" Target="commentAuthors.xml"/>
</Relationships>
</file>

<file path=ppt/comments/comment7.xml><?xml version="1.0" encoding="utf-8"?>
<p:cmLst xmlns:p="http://schemas.openxmlformats.org/presentationml/2006/main">
  <p:cm authorId="0" dt="2019-10-21T17:14:37.576000000" idx="1">
    <p:pos x="5305" y="214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D1A5-CA1A-48DE-BBAC-6B3351432AF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368D2-1696-4FAF-86B5-566171C1E63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B4D99-EE59-4532-982A-60BE29ED8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C157-CE5E-4B24-9740-FA2A6FDD2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3AE1-1B09-4A08-93D3-427AF2E958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A73C1-479A-406F-87A1-000146659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F2ED1-54FA-4FF3-BF91-559A9B467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3D05B-F0FB-4117-87F2-56A6D8747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3C80A-1229-4EBC-A21B-8B0FBE383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E7EAD-4E28-4CD8-AFF5-5DBC3D39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F26C6-52C0-4B3B-8259-A1256253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0407-C88A-4E53-B4FA-448D6EEFC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8C85-3CCD-40EA-A40E-EF5853CD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B1CB-9128-412F-A2AD-B9BC9EECB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D9954-711D-4801-872B-EF8CCE885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256D1-B4D3-48FB-923F-AD713FEC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3D93B-6EA2-4A14-8982-54C76C961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BC03-FE8C-4ABC-95D3-588F3B640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19FAE-957C-49FA-8094-36C2DC304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C71E9D-D1B9-441A-9BBC-495B50381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C4A52-C9ED-46E4-987C-CB03C5287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C4A06-FB33-4A18-A0E6-0AB7B540E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A29885-8106-4D42-A200-2A8427572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0AE1AC-DD74-4FA3-8C2D-06F94E92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10EC-D15B-419F-9C9B-193120C1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62455-38B9-4693-813E-4544D8BBB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0D84C0-9C1F-49FA-B366-89CA70B0A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D158E7-AE1E-4298-BB93-72369CDA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183F7-EBF2-4463-964D-FA2F2441B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B698AC-7532-4D57-9113-7E7962216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CD2961-30A7-477C-AE6C-7A7367B46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E51397-D80E-4CE2-8834-EFEF588F4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8E22F3-49A2-4B46-86D3-32E52A27B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F5D8AF-0DAB-4948-8EB1-85C10178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DEB476-5F71-4B56-8AEE-4EB43F2E9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3F75-FE18-457F-B688-5B7FE854A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9ADD0-626D-4D5F-A179-2F785FC91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966FE-4E8A-43C7-A5FA-53E8B7B7D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F8069F-9CDA-4349-8301-CFE5CE0D8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BFD099-3B94-4AB0-866A-E77FF3D60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C8A1FE-D838-460B-909E-A3E3E7FE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D8A942-7905-4DC9-9511-9769D0E4C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24D2A5-08BE-44B2-9F83-EDF62DEBE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69B7A-0BEB-4EC0-A4B9-6429523D8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4CE8F-9164-4D27-B33E-0C38CBF9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A8BF5-9B89-4D7B-B565-FEAD01ECF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9FF0-F2C6-4F9B-B8B7-54716A93F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31CD88-D47B-4D27-ACC4-BDEC26B98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C74294-924F-4ADE-B65B-9C8603880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27EC8-4607-4B7C-8633-186F2D0F3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04F1E-7166-4902-A35D-F19ED6E14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1E52DE-D297-4D8D-8085-F4BEDA0A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74FCAD-B85B-41C4-BBEE-BD1E4B796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E3269-9C19-49A5-9DC2-99E7D132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4CED9-E9DE-4187-B10E-4731CF6E3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3D73F-6969-450B-9CA7-8194AA486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43CCB1-0B00-4481-9A6F-B93D7CE11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172E9-07C4-48CB-B640-17CB93C8C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7563CF-5A53-43CB-8C44-B2CEC359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C724-12FD-4C30-872F-C909F7199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103D-7404-40DF-9E28-34A6B38C2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DC7EE-3712-4E8F-85D1-103FEE96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圆角矩形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圆角矩形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" name="圆角矩形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6268-03F0-4F78-B7A6-5C52EB253F95}" type="slidenum"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圆角矩形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圆角矩形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47" name="圆角矩形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2DC8-C431-4A82-B556-7B3DBDCF031F}" type="slidenum"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圆角矩形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圆角矩形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2" name="圆角矩形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D6753-F7DC-447C-AEA7-95BEA2B1C88A}" type="slidenum"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圆角矩形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D04E3-C7DE-4676-A56A-9215E601A82F}" type="slidenum"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圆角矩形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单圆角矩形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a7a399"/>
                </a:solidFill>
                <a:latin typeface="Verdana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31DD7-5297-4C53-955F-B42198DC376E}" type="slidenum">
              <a:rPr b="0" lang="zh-CN" sz="1000" spc="-1" strike="noStrike">
                <a:solidFill>
                  <a:srgbClr val="a7a399"/>
                </a:solidFill>
                <a:latin typeface="Verdana"/>
                <a:ea typeface="微软雅黑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6.xml"/><Relationship Id="rId3" Type="http://schemas.openxmlformats.org/officeDocument/2006/relationships/slide" Target="slide6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4000" y="1197000"/>
            <a:ext cx="7848360" cy="1295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8d3e"/>
                </a:solidFill>
                <a:latin typeface="Verdana"/>
              </a:rPr>
              <a:t>毕业授予学位工作简介</a:t>
            </a:r>
            <a:endParaRPr b="1" lang="en-US" sz="6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684360" y="4076640"/>
            <a:ext cx="7775280" cy="165600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66f"/>
                </a:solidFill>
                <a:latin typeface="Verdana"/>
              </a:rPr>
              <a:t>毕业、申请学位的工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>
              <a:buClr>
                <a:srgbClr val="f07f09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766f"/>
                </a:solidFill>
                <a:latin typeface="Verdana"/>
              </a:rPr>
              <a:t>盲审抽签工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500040" y="214200"/>
            <a:ext cx="8183520" cy="10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</a:rPr>
              <a:t>论文送审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10920" y="1265400"/>
            <a:ext cx="7993080" cy="46116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硕士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份）：硕导及以上专家评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非盲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份校外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盲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份省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博士（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份）：博导评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盲审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份省外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盲审时间要求：硕士答辩前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天，博士答辩前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平台送审至少答辩前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0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天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盲审论文要求：隐去研究生姓名、学号、指导教师、致谢等相关信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盲审比例：硕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0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且平台送审比例不低于专业人数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%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，博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00%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平台送审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2876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</a:rPr>
              <a:t>论文答辩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71680" y="1571760"/>
            <a:ext cx="8183520" cy="4402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硕士：至少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人，硕导或高级职称，硕导要半数以上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博士：至少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人，高级职称，博导要半数以上，至少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位校外博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答辩时要详细记录或录音，博士答辩一定要有录音，届时要刻入光盘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答辩后，按照答辩委员会的要求修改论文，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再查重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一次，命名格式：学号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姓名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论文题目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定稿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</a:rPr>
              <a:t>提交学位申请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00040" y="16426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答辩通过后，在系统中完善学位信息，并提交“学位申请”，打印学位申请表（一式两份）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提交学位申请材料，见学院网站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人才培养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研究生教育通知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每年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个批次申请学位，分别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月、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月，提交学位材料的对应时间一般是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日、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日，具体关注班级群或学院网站通知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通过答辩但无科研成果的同学只能领毕业证，但学位材料要自己妥善保管，一旦丢失将无法进行学位申请。待成果发表时，可以在每年的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个批次时段进行申请学位。博士应在通过答辩后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年内完成博士学位申请，硕士应在通过答辩后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年内完成硕士学位申请，逾期视为自动放弃申请学位。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</a:rPr>
              <a:t>领 证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00040" y="1714680"/>
            <a:ext cx="8183520" cy="41875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领取毕业证或学位证时，应本人携带以下材料：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）党员携带党组织关系转移证明（找苏婵老师办理）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）课题组材料移交声明（导师或课题组负责人签字）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）在自己的学生系统里已查询到其他手续已经办理完毕（图书馆、退宿等）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）如本人有事不能前来，可委托他人代领，除了上述材料外，被委托人还需携带：手签的委托书以及双方身份证复印件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503280" y="8125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课题组材料移交声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4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同学（学号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）已将在学期间所有的实验数据、实验药品、实验器材等移交至课题组负责人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XXX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老师处，同意其办理毕业手续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学生（手签）：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课题组负责人（手签）：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日期：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00040" y="71388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Verdana"/>
              </a:rPr>
              <a:t>委 托 书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委托人姓名：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联系方式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学号：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身份证号码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被委托人姓名：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联系方式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学号：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身份证号码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本人因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XXX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（原因），不能亲自领取毕业证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学位证，特委托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XXX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（被委托人姓名）代为领取并办理相关领取手续，对委托人在办理上述事项过程中所签署的有关文件，我均予认可，承担相应的法律责任。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委托人（手签）：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日期：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日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</a:rPr>
              <a:t>学位授予的流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30" name="内容占位符 3" descr=""/>
          <p:cNvPicPr/>
          <p:nvPr/>
        </p:nvPicPr>
        <p:blipFill>
          <a:blip r:embed="rId1"/>
          <a:stretch/>
        </p:blipFill>
        <p:spPr>
          <a:xfrm>
            <a:off x="573120" y="1646280"/>
            <a:ext cx="7924680" cy="43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0040" y="49968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</a:rPr>
              <a:t>学位授予的申请前提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00040" y="1812600"/>
            <a:ext cx="8143920" cy="44737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按培养方案及个人学习计划已修满学分及其他培养环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无欠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有科研成果：需要在</a:t>
            </a:r>
            <a:r>
              <a:rPr b="0" lang="zh-CN" sz="2000" spc="-1" strike="noStrike" u="sng">
                <a:solidFill>
                  <a:srgbClr val="6b9f25"/>
                </a:solidFill>
                <a:uFillTx/>
                <a:latin typeface="Verdana"/>
                <a:hlinkClick r:id="rId1" action="ppaction://hlinksldjump"/>
              </a:rPr>
              <a:t>研究生系统录入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已发表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提供文章首页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amp;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检索证明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&amp;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分区证明（图书馆开具）；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000" spc="-1" strike="noStrike" u="sng">
                <a:solidFill>
                  <a:srgbClr val="6b9f25"/>
                </a:solidFill>
                <a:uFillTx/>
                <a:latin typeface="Verdana"/>
                <a:hlinkClick r:id="rId2" action="ppaction://hlinksldjump"/>
              </a:rPr>
              <a:t>仅录用尚未发表，提供导师签字的接收函</a:t>
            </a:r>
            <a:r>
              <a:rPr b="0" lang="en-US" sz="2000" spc="-1" strike="noStrike" u="sng">
                <a:solidFill>
                  <a:srgbClr val="6b9f25"/>
                </a:solidFill>
                <a:uFillTx/>
                <a:latin typeface="Verdana"/>
                <a:hlinkClick r:id="rId3" action="ppaction://hlinksldjump"/>
              </a:rPr>
              <a:t>&amp;</a:t>
            </a:r>
            <a:r>
              <a:rPr b="0" lang="zh-CN" sz="2000" spc="-1" strike="noStrike" u="sng">
                <a:solidFill>
                  <a:srgbClr val="6b9f25"/>
                </a:solidFill>
                <a:uFillTx/>
                <a:latin typeface="Verdana"/>
                <a:hlinkClick r:id="rId4" action="ppaction://hlinksldjump"/>
              </a:rPr>
              <a:t>送审申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完成学位论文：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《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厦门大学材料学院研究生学位论文格式规范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：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动作按钮: 前进或下一项 3"/>
          <p:cNvSpPr/>
          <p:nvPr/>
        </p:nvSpPr>
        <p:spPr>
          <a:xfrm>
            <a:off x="7643880" y="6072120"/>
            <a:ext cx="428400" cy="285840"/>
          </a:xfrm>
          <a:custGeom>
            <a:avLst/>
            <a:gdLst>
              <a:gd name="textAreaLeft" fmla="*/ 18360 w 428400"/>
              <a:gd name="textAreaRight" fmla="*/ 410040 w 428400"/>
              <a:gd name="textAreaTop" fmla="*/ 18360 h 285840"/>
              <a:gd name="textAreaBottom" fmla="*/ 267480 h 285840"/>
            </a:gdLst>
            <a:ahLst/>
            <a:rect l="textAreaLeft" t="textAreaTop" r="textAreaRight" b="textAreaBottom"/>
            <a:pathLst>
              <a:path w="32359" h="21600">
                <a:moveTo>
                  <a:pt x="0" y="0"/>
                </a:moveTo>
                <a:lnTo>
                  <a:pt x="32359" y="0"/>
                </a:lnTo>
                <a:lnTo>
                  <a:pt x="32359" y="21600"/>
                </a:lnTo>
                <a:lnTo>
                  <a:pt x="0" y="21600"/>
                </a:lnTo>
                <a:close/>
              </a:path>
              <a:path fill="lightenLess" w="32359" h="21600">
                <a:moveTo>
                  <a:pt x="0" y="0"/>
                </a:moveTo>
                <a:lnTo>
                  <a:pt x="32359" y="0"/>
                </a:lnTo>
                <a:lnTo>
                  <a:pt x="30959" y="1400"/>
                </a:lnTo>
                <a:lnTo>
                  <a:pt x="1400" y="1400"/>
                </a:lnTo>
                <a:close/>
              </a:path>
              <a:path fill="darken" w="32359" h="21600">
                <a:moveTo>
                  <a:pt x="32359" y="0"/>
                </a:moveTo>
                <a:lnTo>
                  <a:pt x="32359" y="21600"/>
                </a:lnTo>
                <a:lnTo>
                  <a:pt x="30959" y="20200"/>
                </a:lnTo>
                <a:lnTo>
                  <a:pt x="30959" y="1400"/>
                </a:lnTo>
                <a:close/>
              </a:path>
              <a:path fill="darkenLess" w="32359" h="21600">
                <a:moveTo>
                  <a:pt x="323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59" y="20200"/>
                </a:lnTo>
                <a:close/>
              </a:path>
              <a:path fill="lighten" w="323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59" h="21600">
                <a:moveTo>
                  <a:pt x="9173" y="3794"/>
                </a:moveTo>
                <a:lnTo>
                  <a:pt x="23186" y="10800"/>
                </a:lnTo>
                <a:lnTo>
                  <a:pt x="9173" y="17806"/>
                </a:lnTo>
                <a:close/>
              </a:path>
            </a:pathLst>
          </a:cu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流程图: 资料带 4"/>
          <p:cNvSpPr/>
          <p:nvPr/>
        </p:nvSpPr>
        <p:spPr>
          <a:xfrm>
            <a:off x="5796000" y="549360"/>
            <a:ext cx="2776680" cy="1379520"/>
          </a:xfrm>
          <a:prstGeom prst="flowChartPunchedTape">
            <a:avLst/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培养环节学分补录，请将证明材料于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3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月</a:t>
            </a: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日前统一提交给班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785880" y="1000080"/>
            <a:ext cx="7572240" cy="371808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录入途径：研究生系统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学生信息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科研成果信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注意点：单位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0" lang="zh-CN" sz="2000" spc="-1" strike="noStrike">
                <a:solidFill>
                  <a:srgbClr val="ff0000"/>
                </a:solidFill>
                <a:latin typeface="Verdana"/>
              </a:rPr>
              <a:t>仅为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厦门大学材料学院或者学院平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录用但尚未发表，在期刊和页数等栏目预估填写，在备注上写：录用待发表，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OI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号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打印科研成果汇总表：硕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份，博士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左箭头 3">
            <a:hlinkClick r:id="" action="ppaction://hlinkshowjump?jump=previousslide"/>
          </p:cNvPr>
          <p:cNvSpPr/>
          <p:nvPr/>
        </p:nvSpPr>
        <p:spPr>
          <a:xfrm>
            <a:off x="7786800" y="5572080"/>
            <a:ext cx="500040" cy="285840"/>
          </a:xfrm>
          <a:prstGeom prst="leftArrow">
            <a:avLst>
              <a:gd name="adj1" fmla="val 50000"/>
              <a:gd name="adj2" fmla="val 49979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68000" y="980640"/>
            <a:ext cx="4174920" cy="3095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85840" indent="-28584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按规定，硕士学位论文的字数一般不少于三万字左右；博士学位论文的字数一般不少于五万字左右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理工医科博士学位论文封面使用浅蓝色，理工医科硕士学位论文封面使用浅绿色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</a:rPr>
              <a:t>学位论文封面“厦门大学”为嘉庚体。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285840" indent="-285840">
              <a:lnSpc>
                <a:spcPct val="15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图片 4" descr=""/>
          <p:cNvPicPr/>
          <p:nvPr/>
        </p:nvPicPr>
        <p:blipFill>
          <a:blip r:embed="rId1"/>
          <a:stretch/>
        </p:blipFill>
        <p:spPr>
          <a:xfrm>
            <a:off x="4859280" y="692280"/>
            <a:ext cx="3745080" cy="51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03280" y="529920"/>
            <a:ext cx="8183520" cy="532764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Verdana"/>
              </a:rPr>
              <a:t>论文送审申请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本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XX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（学号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XX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）是材料学院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级硕（博）士研究生，目前已撰写题为“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XX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论文，尚未投稿或在修订中（具体描述科研成果情况），科研成果未符合本专业授学位要求，但学位论文已完成并通过导师审核定稿。因为本人</a:t>
            </a:r>
            <a:r>
              <a:rPr b="0" lang="en-US" sz="1700" spc="-1" strike="noStrike">
                <a:solidFill>
                  <a:srgbClr val="000000"/>
                </a:solidFill>
                <a:latin typeface="Verdana"/>
              </a:rPr>
              <a:t>XXX</a:t>
            </a:r>
            <a:r>
              <a:rPr b="0" lang="zh-CN" sz="1700" spc="-1" strike="noStrike">
                <a:solidFill>
                  <a:srgbClr val="000000"/>
                </a:solidFill>
                <a:latin typeface="Verdana"/>
              </a:rPr>
              <a:t>原因（求职就业或其他原因，具体描述），经导师同意，特向学院申请提前送审论文，在此期间产生的一切后果自负。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Verdana"/>
              </a:rPr>
              <a:t>申请人：本人手签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17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17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1700" spc="-1" strike="noStrike">
                <a:solidFill>
                  <a:srgbClr val="000000"/>
                </a:solidFill>
                <a:latin typeface="Verdana"/>
              </a:rPr>
              <a:t>日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Verdana"/>
              </a:rPr>
              <a:t>导师签批意见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Verdana"/>
              </a:rPr>
              <a:t>系主任签批意见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700" spc="-1" strike="noStrike">
                <a:solidFill>
                  <a:srgbClr val="000000"/>
                </a:solidFill>
                <a:latin typeface="Verdana"/>
              </a:rPr>
              <a:t>分管院长签批意见：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左箭头 3"/>
          <p:cNvSpPr/>
          <p:nvPr/>
        </p:nvSpPr>
        <p:spPr>
          <a:xfrm>
            <a:off x="7786800" y="6000840"/>
            <a:ext cx="500040" cy="214200"/>
          </a:xfrm>
          <a:prstGeom prst="leftArrow">
            <a:avLst>
              <a:gd name="adj1" fmla="val 50000"/>
              <a:gd name="adj2" fmla="val 50029"/>
            </a:avLst>
          </a:prstGeom>
          <a:solidFill>
            <a:srgbClr val="f07f09"/>
          </a:solidFill>
          <a:ln w="424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组合 7"/>
          <p:cNvGrpSpPr/>
          <p:nvPr/>
        </p:nvGrpSpPr>
        <p:grpSpPr>
          <a:xfrm>
            <a:off x="3132000" y="4076640"/>
            <a:ext cx="3440160" cy="1731960"/>
            <a:chOff x="3132000" y="4076640"/>
            <a:chExt cx="3440160" cy="1731960"/>
          </a:xfrm>
        </p:grpSpPr>
        <p:sp>
          <p:nvSpPr>
            <p:cNvPr id="242" name="线形标注 2 5"/>
            <p:cNvSpPr/>
            <p:nvPr/>
          </p:nvSpPr>
          <p:spPr>
            <a:xfrm>
              <a:off x="3331440" y="4076640"/>
              <a:ext cx="3240720" cy="782280"/>
            </a:xfrm>
            <a:prstGeom prst="borderCallout2">
              <a:avLst>
                <a:gd name="adj1" fmla="val 18750"/>
                <a:gd name="adj2" fmla="val -8333"/>
                <a:gd name="adj3" fmla="val 18518"/>
                <a:gd name="adj4" fmla="val -16666"/>
                <a:gd name="adj5" fmla="val 113425"/>
                <a:gd name="adj6" fmla="val -46296"/>
              </a:avLst>
            </a:prstGeom>
            <a:solidFill>
              <a:srgbClr val="f07f09"/>
            </a:solidFill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自行找姚荣迁老师签字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线形标注 1 6"/>
            <p:cNvSpPr/>
            <p:nvPr/>
          </p:nvSpPr>
          <p:spPr>
            <a:xfrm>
              <a:off x="3132000" y="5473440"/>
              <a:ext cx="1825560" cy="335160"/>
            </a:xfrm>
            <a:prstGeom prst="borderCallout1">
              <a:avLst>
                <a:gd name="adj1" fmla="val 18750"/>
                <a:gd name="adj2" fmla="val -8333"/>
                <a:gd name="adj3" fmla="val -37625"/>
                <a:gd name="adj4" fmla="val -59634"/>
              </a:avLst>
            </a:prstGeom>
            <a:solidFill>
              <a:srgbClr val="f07f09"/>
            </a:solidFill>
            <a:ln w="42480">
              <a:solidFill>
                <a:srgbClr val="b05c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统一交给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00040" y="-171720"/>
            <a:ext cx="818352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</a:rPr>
              <a:t>论文查重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94920" y="692280"/>
            <a:ext cx="8248680" cy="57369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研究生系统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学位论文管理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”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中填写并完善学位论文信息（在论文答辩结果提交前，均可修改论文相关信息；论文简介不超过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500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字）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打印研究生学位论文答辩申请表（系统里正反打印，一式一份），导师签字后交由答辩秘书。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有科研成果的提供文章首页（高亮标注姓名、通讯地址等）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&amp;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检索证明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&amp;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分区证明（图书馆开具）；仅录用尚未发表，提供导师签字的接收函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&amp;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送审申请，无科研成果但导师同意送审，申请答辩的同学，提交答辩承诺书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学生将论文最终版电子版（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pdf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，命名格式须为：学号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姓名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_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论文题目）发送邮件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clxyyjs@xmu.edu.cn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进行查重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邮件同时抄送导师和答辩秘书，邮件命名方式为姓名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导师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送审类别。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500" spc="-1" strike="noStrike">
                <a:solidFill>
                  <a:srgbClr val="ff0000"/>
                </a:solidFill>
                <a:latin typeface="Verdana"/>
              </a:rPr>
              <a:t>每位同学只有两次查重机会，查重合格（＜ </a:t>
            </a:r>
            <a:r>
              <a:rPr b="0" i="1" lang="en-US" sz="1500" spc="-1" strike="noStrike">
                <a:solidFill>
                  <a:srgbClr val="ff0000"/>
                </a:solidFill>
                <a:latin typeface="Verdana"/>
              </a:rPr>
              <a:t>10%</a:t>
            </a:r>
            <a:r>
              <a:rPr b="0" i="1" lang="zh-CN" sz="1500" spc="-1" strike="noStrike">
                <a:solidFill>
                  <a:srgbClr val="ff0000"/>
                </a:solidFill>
                <a:latin typeface="Verdana"/>
              </a:rPr>
              <a:t>）后领取答辩袋并进行论文送审。</a:t>
            </a:r>
            <a:r>
              <a:rPr b="0" i="1" lang="en-US" sz="1500" spc="-1" strike="noStrike">
                <a:solidFill>
                  <a:srgbClr val="ff0000"/>
                </a:solidFill>
                <a:latin typeface="Verdana"/>
              </a:rPr>
              <a:t>10%~20%</a:t>
            </a:r>
            <a:r>
              <a:rPr b="0" i="1" lang="zh-CN" sz="1500" spc="-1" strike="noStrike">
                <a:solidFill>
                  <a:srgbClr val="ff0000"/>
                </a:solidFill>
                <a:latin typeface="Verdana"/>
              </a:rPr>
              <a:t>之间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须根据查重报告修改论文并形成修改说明，经导师审定签批意见，最后交给研究生秘书方可送审；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20%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以上则取消本批次学位申请资格。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论文非盲审和非平台送审及答辩手续都是答辩秘书经手，只有平台送审由研究生秘书处理。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503280" y="530280"/>
            <a:ext cx="8183520" cy="52560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Verdana"/>
              </a:rPr>
              <a:t>答辩承诺书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15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本人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XXX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（学号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XXX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）是材料学院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专业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XX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级硕（博）士研究生，目前学位论文已送审合格，但科研成果尚未符合本专业授学位要求，因为本人</a:t>
            </a: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XXX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原因（求职就业或其他原因，具体描述），经</a:t>
            </a:r>
            <a:r>
              <a:rPr b="0" lang="zh-CN" sz="1500" spc="-1" strike="noStrike">
                <a:solidFill>
                  <a:srgbClr val="ff0000"/>
                </a:solidFill>
                <a:latin typeface="Verdana"/>
              </a:rPr>
              <a:t>导师同意</a:t>
            </a:r>
            <a:r>
              <a:rPr b="0" lang="zh-CN" sz="1500" spc="-1" strike="noStrike">
                <a:solidFill>
                  <a:srgbClr val="000000"/>
                </a:solidFill>
                <a:latin typeface="Verdana"/>
              </a:rPr>
              <a:t>，特向学院申请论文答辩，待科研成果符合授学位要求后再行申请授学位。在此期间，如果由于违反学校规定或是由于政策变动导致无法授学位的话，后果自负，与学院无关。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Verdana"/>
              </a:rPr>
              <a:t>承诺人：本人手签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15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15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1500" spc="-1" strike="noStrike">
                <a:solidFill>
                  <a:srgbClr val="000000"/>
                </a:solidFill>
                <a:latin typeface="Verdana"/>
              </a:rPr>
              <a:t>日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Verdana"/>
              </a:rPr>
              <a:t>导师签批意见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Verdana"/>
              </a:rPr>
              <a:t>系主任签批意见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000000"/>
                </a:solidFill>
                <a:latin typeface="Verdana"/>
              </a:rPr>
              <a:t>分管院长签批意见：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Verdana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8d3e"/>
                </a:solidFill>
                <a:latin typeface="Verdana"/>
              </a:rPr>
              <a:t>答辩袋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00040" y="1428480"/>
            <a:ext cx="8183520" cy="425916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 fontScale="81000"/>
          </a:bodyPr>
          <a:p>
            <a:pPr marL="214560" indent="-214560">
              <a:lnSpc>
                <a:spcPct val="1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研究生毕业登记表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学位论文评定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70000"/>
              </a:lnSpc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论文评阅书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注意点：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所有材料有日期的地方都需要填上日期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不能使用涂改液、不能粘贴非必要纸张信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不能使用铅笔填写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lnSpc>
                <a:spcPct val="17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4.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若写错，直接一横线划掉，再写上正确信息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214560" indent="-2145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08T01:13:46Z</dcterms:created>
  <dc:creator>Administrator</dc:creator>
  <dc:description/>
  <dc:language>en-US</dc:language>
  <cp:lastModifiedBy>郭艳</cp:lastModifiedBy>
  <dcterms:modified xsi:type="dcterms:W3CDTF">2023-03-14T03:32:54Z</dcterms:modified>
  <cp:revision>83</cp:revision>
  <dc:subject/>
  <dc:title>2018年毕业授予学位工作简介</dc:title>
</cp:coreProperties>
</file>